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536400" y="479520"/>
            <a:ext cx="62424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5400360"/>
            <a:ext cx="6096240" cy="3585960"/>
          </a:xfrm>
          <a:prstGeom prst="rect">
            <a:avLst/>
          </a:prstGeom>
          <a:noFill/>
          <a:ln w="0">
            <a:noFill/>
          </a:ln>
        </p:spPr>
        <p:txBody>
          <a:bodyPr lIns="13320" rIns="13320" tIns="13320" bIns="1332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otes_Footer"/>
          <p:cNvSpPr/>
          <p:nvPr/>
        </p:nvSpPr>
        <p:spPr>
          <a:xfrm>
            <a:off x="677880" y="9201240"/>
            <a:ext cx="610884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Database 1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 SQL Fundamentals II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B-</a:t>
            </a:r>
            <a:fld id="{3FF10F4D-5DBD-4C93-BFE6-E5412F0B53E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../slides/slide5.xml"/><Relationship Id="rId5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507960" y="315720"/>
            <a:ext cx="6324480" cy="8675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863640"/>
            <a:ext cx="3276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601"/>
              </a:spcAft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ix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le Descriptio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headings for column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ISSION_PC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NAGER_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_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re set t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GR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TI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 the following screenshot, to fit the table values across the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employee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60" y="1644480"/>
            <a:ext cx="6156360" cy="575172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(continu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1120" y="963720"/>
            <a:ext cx="6225840" cy="7784640"/>
            <a:chOff x="681120" y="963720"/>
            <a:chExt cx="6225840" cy="77846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11000" y="963720"/>
              <a:ext cx="6195960" cy="52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81120" y="6134400"/>
              <a:ext cx="6215760" cy="26139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(continu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8040" y="946080"/>
            <a:ext cx="6278040" cy="7862760"/>
            <a:chOff x="608040" y="946080"/>
            <a:chExt cx="6278040" cy="78627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92640" y="946080"/>
              <a:ext cx="6188400" cy="57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608040" y="6626520"/>
              <a:ext cx="6278040" cy="218232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OB_HIST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job_hist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job_history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60" y="1084320"/>
            <a:ext cx="6067440" cy="1479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1200" y="3063960"/>
            <a:ext cx="6296040" cy="301140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TY RELATIONSHIP DIAG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hrerd_NEW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6381720" cy="324828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6800" y="1035000"/>
            <a:ext cx="6300720" cy="2443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s in the Schem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tab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4240" y="1044720"/>
            <a:ext cx="6062760" cy="69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14240" y="2206800"/>
            <a:ext cx="6062760" cy="1290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reg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region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RI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count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countrie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8120" y="1019160"/>
            <a:ext cx="5976720" cy="9223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77720" y="2384280"/>
            <a:ext cx="6278400" cy="5589360"/>
            <a:chOff x="477720" y="2384280"/>
            <a:chExt cx="6278400" cy="558936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77720" y="5310360"/>
              <a:ext cx="6278400" cy="26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577440" y="2384280"/>
              <a:ext cx="6098760" cy="29523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OCA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location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location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8120" y="1023840"/>
            <a:ext cx="6059520" cy="14986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498600" y="2984400"/>
            <a:ext cx="6347880" cy="5371920"/>
            <a:chOff x="498600" y="2984400"/>
            <a:chExt cx="6347880" cy="53719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713160" y="2984400"/>
              <a:ext cx="6122880" cy="31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498600" y="5730120"/>
              <a:ext cx="6347880" cy="262620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PARTME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departm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department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7480" y="1023840"/>
            <a:ext cx="6089760" cy="12798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504720" y="2768760"/>
            <a:ext cx="6311520" cy="5876280"/>
            <a:chOff x="504720" y="2768760"/>
            <a:chExt cx="6311520" cy="58762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708120" y="2768760"/>
              <a:ext cx="6108120" cy="29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504720" y="5653080"/>
              <a:ext cx="6291360" cy="29919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09480" y="552600"/>
            <a:ext cx="6096240" cy="843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OB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job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LECT * FROM jobs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17480" y="1046160"/>
            <a:ext cx="6059520" cy="1258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11200" y="2749680"/>
            <a:ext cx="6275520" cy="501156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09480" y="552240"/>
            <a:ext cx="6096240" cy="85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SCRIBE employe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7480" y="1044720"/>
            <a:ext cx="6166080" cy="27381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34308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3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661-9FA5-4763-A000-C24AFD86D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, Oracle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B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4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4, Oracle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28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Descri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26640" y="4419360"/>
            <a:ext cx="7302600" cy="4316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3913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1:09Z</dcterms:created>
  <dc:creator>Oracle</dc:creator>
  <dc:description/>
  <dc:language>en-US</dc:language>
  <cp:lastModifiedBy>Joseph Fernandez</cp:lastModifiedBy>
  <cp:lastPrinted>2004-03-15T19:41:22Z</cp:lastPrinted>
  <dcterms:modified xsi:type="dcterms:W3CDTF">2004-03-16T12:10:05Z</dcterms:modified>
  <cp:revision>4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ild_Date">
    <vt:filetime>2001-07-03T07:00:00Z</vt:filetime>
  </property>
  <property fmtid="{D5CDD505-2E9C-101B-9397-08002B2CF9AE}" pid="3" name="Build_Time">
    <vt:lpwstr>10:11:09 AM</vt:lpwstr>
  </property>
  <property fmtid="{D5CDD505-2E9C-101B-9397-08002B2CF9AE}" pid="4" name="Build_version">
    <vt:lpwstr> 111</vt:lpwstr>
  </property>
  <property fmtid="{D5CDD505-2E9C-101B-9397-08002B2CF9AE}" pid="5" name="Install_dir">
    <vt:lpwstr/>
  </property>
  <property fmtid="{D5CDD505-2E9C-101B-9397-08002B2CF9AE}" pid="6" name="Version">
    <vt:lpwstr>1.00</vt:lpwstr>
  </property>
  <property fmtid="{D5CDD505-2E9C-101B-9397-08002B2CF9AE}" pid="7" name="home_page">
    <vt:lpwstr>http://ap337sun.us.oracle.com/powerpoint</vt:lpwstr>
  </property>
</Properties>
</file>