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772400" cy="100584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55753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1120" y="5311800"/>
            <a:ext cx="55753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1120" y="531180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8080" y="531180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26080" y="136476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11400" y="136476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1120" y="531180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926080" y="531180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811400" y="531180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1120" y="1364760"/>
            <a:ext cx="5575320" cy="75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55753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1120" y="531180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8080" y="531180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1120" y="5311800"/>
            <a:ext cx="55753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41120" y="1364760"/>
            <a:ext cx="55753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cf4ea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6400800" cy="7848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fac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I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urse Objectives   I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urse Overview   I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I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rolling User Acc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1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ling User Access   1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vileges   1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stem Privileges   1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Users   1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r System Privileges   1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anting System Privileges   1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Is a Role?   1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nd Granting Privileges to a Role   1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nging Your Password   1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 Privileges   1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anting Object Privileges   1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ssing On Your Privileges   1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firming Privileges Granted    1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voking Object Privileges   1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1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1: Overview   1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e Schema Objec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2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ALTER TABL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atement   2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ng a Column   2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difying a Column   2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opping a Column   2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ET UNUSE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ption   2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ng a Constraint Syntax   2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ng a Constraint   2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2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erring Constraints   2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opping a Constraint   2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abling Constraints   2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abling Constraints   2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scading Constraints   2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3920" indent="0">
              <a:spcBef>
                <a:spcPts val="139"/>
              </a:spcBef>
              <a:buNone/>
              <a:tabLst>
                <a:tab algn="l" pos="0"/>
                <a:tab algn="l" pos="22392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view of Indexes   2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835200" y="838080"/>
            <a:ext cx="97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760" bIns="50760" anchor="t">
            <a:noAutofit/>
          </a:bodyPr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74652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6400800" cy="8229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43812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REATE INDEX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REATE TABL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atement   2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nction-Based Indexes   2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moving an Index   2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ROP TABLE ... PURG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2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FLASHBACK TABL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atement   2-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ternal Tables   2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 Directory for the External Table   2-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n External Table   2-3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n External Table Using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ORACLE_LOADE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2-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rying External Tables   2-3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2-3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2: Overview   2-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ipulating Large Data Se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3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Subqueries to Manipulate Data   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ing Rows from Another Table   3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serting Using a Subquery as a Target   3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trieving Data with a Subquery as Source   3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pdating Two Columns with a Subquery   3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pdating Rows Based on Another Table   3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leting Rows Based on Another Table   3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WITH CHECK OP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Keyword on DML Statements   3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view of the Explicit Default Feature   3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Explicit Default Values   3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view of Multitabl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ER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atements   3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s of Multitabl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ER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atements   3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ltitabl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ER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atements   3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conditional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ERT A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3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ditional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ERT A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3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ditional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ERT FIRS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3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ivoting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ER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3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atement   3-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atement Syntax   3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rging Rows   3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acking Changes in Data   3-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ample of the Flashback Version Query   3-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VERSIONS BETWEE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lause   3-3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3-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3: Overview   3-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rating Reports by Grouping Related Dat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4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view of Group Functions   4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4652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6400800" cy="8007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view of 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GROUP B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lause   4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view of 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HAVING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lause   4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GROUP B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ROLLU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UB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perators   4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ROLLU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perator   4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ROLLU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perator: Example CUBE Operator   4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UB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perator: Example   4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GROUPING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Function   4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GROUPING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Function: Example   4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GROUPING SET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4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GROUPING SET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Example   4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osite Columns   4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osite Columns: Example   4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catenated Groupings   4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catenated Groupings: Example   4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4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4: Overview   4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ing Data in Different Time Zon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5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e Zones   5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IME_ZON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ession Parameter   5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URRENT_DA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URRENT_TIMESTAM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LOCALTIMESTAM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5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URRENT_DA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5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URRENT_TIMESTAM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5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LOCALTIMESTAM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5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BTIMEZON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ESSIONTIMEZON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5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IMESTAM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 Type   5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IMESTAM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 Types   5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IMESTAM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Fields   5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erence between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IMESTAM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5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IMESTAMP WITH TIMEZON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 Type   5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IMESTAMP WITH TIMEZON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Example   5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IMESTAMP WITH LOCAL TIMEZON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5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IMESTAMP WITH LOCAL TIMEZON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Example   5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TERVA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 Types   5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TERVA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Fields   5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TERVAL YEAR TO MON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 Type   5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TERVAL YEAR TO MON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Example   5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TERVAL DAY TO SECON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 Type   5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TERVAL DAY TO SECON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 Type: Example   5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EXTRAC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5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6160" y="9212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6400800" cy="815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Z_OFFSE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5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IMESTAM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onversion Using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FROM_TZ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5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verting to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IMESTAM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O_TIMESTAM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O_TIMESTAMP_TZ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5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e Interval Conversion with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O_YMINTERVA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5-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O_DSINTERVA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Example    5-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ylight Saving Time   5-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5-3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5: Overview   5-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trieving Data Using Subqueri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6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ltiple-Column Subqueries   6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umn Comparisons   6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irwise Comparison Subquery   6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npairwise Comparison Subquery   6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calar Subquery Expressions   6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calar Subqueries: Examples   6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related Subqueries   6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Correlated Subqueries   6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perator   6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d Employees Who Have at Least One Person Reporting to Them   6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d All Departments That Do Not Have Any Employees   6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relate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6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Correlate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6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rrelate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6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Correlate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6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WI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lause   6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WI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lause: Example   6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6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6: Overview   6-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erarchical Retrieva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7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mple Data from 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EMPLOYEE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Table  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atural Tree Structure  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erarchical Queries   7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lking the Tree   7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lking the Tree: From the Bottom Up   7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lking the Tree: From the Top Down   7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anking Rows with 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LEVE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seudocolumn   7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atting Hierarchical Reports Using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LEVE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LPA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7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uning Branches   7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7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7: Overview   7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616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6400800" cy="8007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gular Expression Suppor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8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gular Expression Overview   8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ta Characters   8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Meta Characters   8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gular Expression Functions   8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REGEX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Function Syntax   8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ing Basic Searches   8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cking the Presence of a Pattern   8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ample of Extracting Substrings   8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placing Patterns   8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gular Expressions and Check Constraints   8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8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8: Overview   8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endix A: Practice Solutio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endix B: Table Descriptions and Dat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endix C: Writing Advanced Scrip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C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SQL to Generate SQL   C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 Basic Script   C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ling the Environment   C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Complete Picture   C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umping the Contents of a Table to a File   C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nerating a Dynamic Predicate   C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C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endix D: Oracle Architectural Componen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D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Database Architecture: Overview   D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base Physical Architecture    D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 Files   D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do Log Files   D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blespaces and Data Files   D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gments, Extents, and Blocks   D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Instance Management   D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Memory Structures   D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Processes   D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 Key Physical Structures   D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cessing a SQL Statement   D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6160" y="9212400"/>
            <a:ext cx="32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6400800" cy="8007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necting to an Instance   D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cessing a Query   D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Shared Pool   D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base Buffer Cache   D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gram Global Area (PGA)   D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cessing a DML Statement   D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do Log Buffer   D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llback Segment   D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OMMI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rocessing   D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D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itional Practic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itional Practice Solutio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45800" y="9212400"/>
            <a:ext cx="36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0T19:33:44Z</dcterms:created>
  <dc:creator>Education Products</dc:creator>
  <dc:description/>
  <dc:language>en-US</dc:language>
  <cp:lastModifiedBy>hkalyana</cp:lastModifiedBy>
  <cp:lastPrinted>2004-02-12T23:24:22Z</cp:lastPrinted>
  <dcterms:modified xsi:type="dcterms:W3CDTF">2004-08-18T12:12:10Z</dcterms:modified>
  <cp:revision>525</cp:revision>
  <dc:subject>Edition 1-97</dc:subject>
  <dc:title>Table of Contents</dc:title>
</cp:coreProperties>
</file>