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477720" y="463680"/>
            <a:ext cx="60357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82480" y="5221440"/>
            <a:ext cx="5826240" cy="346680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1"/>
          </p:nvPr>
        </p:nvSpPr>
        <p:spPr>
          <a:xfrm>
            <a:off x="0" y="8686800"/>
            <a:ext cx="699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acle Database 10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: SQL Fundamentals II   I-</a:t>
            </a:r>
            <a:fld id="{21104BA0-B4F3-4E4D-8CFE-4C9D7BEE17C0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0" y="8686800"/>
            <a:ext cx="699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acle Database 10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: SQL Fundamentals II   I-</a:t>
            </a:r>
            <a:fld id="{18597E58-82EC-4F54-9E10-E3C6D298185C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477720" y="463680"/>
            <a:ext cx="6035760" cy="45259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582480" y="5221440"/>
            <a:ext cx="5826240" cy="34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0" y="8686800"/>
            <a:ext cx="699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acle Database 10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: SQL Fundamentals II   I-</a:t>
            </a:r>
            <a:fld id="{6754045C-257A-462F-90E7-D7E5E1D849D6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477720" y="463680"/>
            <a:ext cx="6035760" cy="452592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82480" y="5221440"/>
            <a:ext cx="5826240" cy="34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0" y="8686800"/>
            <a:ext cx="699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acle Database 10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: SQL Fundamentals II   I-</a:t>
            </a:r>
            <a:fld id="{692741A5-6E6D-45FD-B341-D800357FC239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477720" y="463680"/>
            <a:ext cx="6035760" cy="452592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582480" y="5221440"/>
            <a:ext cx="5826240" cy="34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477720" y="463680"/>
            <a:ext cx="6035760" cy="45259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582480" y="5221440"/>
            <a:ext cx="5826240" cy="346680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s Used in the Cour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following tables are used in this course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MPLOYEE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MPLOYEE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able contains information about all the employees such as their first and last names, job IDs, salaries, hire dates, department IDs, and manager IDs. This table is a child of 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PARTMENT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able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PARTMENT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PARTMENT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able contains information such as the department ID, department name, manager ID, and location ID. This table is the primary key table to 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MPLOYEE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able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OCATION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table contains department location information. It contains location ID, street address, city, state province, postal code, and country ID information. It is the primary key table t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PARTMENT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able and is a child of 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UNTRIE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able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UNTRIE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table contains the country names, country IDs, and region IDs. It is a child of 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GION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able. This table is the primary key table to 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OCATION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able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GION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table contains region IDs and region names of the various countries. It is a primary key table to 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UNTRIE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able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0" y="8686800"/>
            <a:ext cx="699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acle Database 10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: SQL Fundamentals II   I-</a:t>
            </a:r>
            <a:fld id="{936AC348-4C52-4362-8E16-DCA44E5E1638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477720" y="463680"/>
            <a:ext cx="6035760" cy="45259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82480" y="5221440"/>
            <a:ext cx="5826240" cy="34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63280" y="3273480"/>
            <a:ext cx="736596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52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63280" y="327348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520" y="327348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3760" y="181584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44600" y="181584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63280" y="327348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3760" y="327348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44600" y="327348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63280" y="1815840"/>
            <a:ext cx="7365960" cy="27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359424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7520" y="1815840"/>
            <a:ext cx="359424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88840" y="533520"/>
            <a:ext cx="731520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520" y="1815840"/>
            <a:ext cx="359424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63280" y="327348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63280" y="1815840"/>
            <a:ext cx="7365960" cy="27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359424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52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7520" y="327348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52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63280" y="3273480"/>
            <a:ext cx="736596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63280" y="3273480"/>
            <a:ext cx="736596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52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63280" y="327348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7520" y="327348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53760" y="181584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44600" y="181584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63280" y="327348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53760" y="327348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44600" y="327348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359424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520" y="1815840"/>
            <a:ext cx="359424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88840" y="533520"/>
            <a:ext cx="731520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520" y="1815840"/>
            <a:ext cx="359424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63280" y="327348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359424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52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520" y="327348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52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63280" y="3273480"/>
            <a:ext cx="736596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63280" y="1815840"/>
            <a:ext cx="736596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343080">
              <a:spcBef>
                <a:spcPts val="550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1430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2574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2574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2574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370560"/>
            <a:ext cx="9144000" cy="271440"/>
          </a:xfrm>
          <a:prstGeom prst="rect">
            <a:avLst/>
          </a:prstGeom>
          <a:ln w="0">
            <a:noFill/>
          </a:ln>
        </p:spPr>
      </p:pic>
      <p:sp>
        <p:nvSpPr>
          <p:cNvPr id="3" name="Slide_Page_Number"/>
          <p:cNvSpPr/>
          <p:nvPr/>
        </p:nvSpPr>
        <p:spPr>
          <a:xfrm>
            <a:off x="457200" y="6654960"/>
            <a:ext cx="9651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-</a:t>
            </a:r>
            <a:fld id="{1E7BE000-38E2-4780-8683-22576E6A8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Slide_Copyright"/>
          <p:cNvSpPr/>
          <p:nvPr/>
        </p:nvSpPr>
        <p:spPr>
          <a:xfrm>
            <a:off x="2527200" y="6654960"/>
            <a:ext cx="41022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4, Oracle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le_Gray_Number"/>
          <p:cNvSpPr/>
          <p:nvPr/>
        </p:nvSpPr>
        <p:spPr>
          <a:xfrm>
            <a:off x="939960" y="952560"/>
            <a:ext cx="7302240" cy="43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00" rIns="12600" tIns="12600" bIns="12600" anchor="ctr">
            <a:noAutofit/>
          </a:bodyPr>
          <a:p>
            <a:pPr algn="ctr"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7700" spc="-1" strike="noStrike">
                <a:solidFill>
                  <a:srgbClr val="cccccc"/>
                </a:solidFill>
                <a:latin typeface="Times New Roman"/>
              </a:rPr>
              <a:t>I</a:t>
            </a:r>
            <a:endParaRPr b="0" lang="en-US" sz="27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315200" cy="11811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370560"/>
            <a:ext cx="9144000" cy="271440"/>
          </a:xfrm>
          <a:prstGeom prst="rect">
            <a:avLst/>
          </a:prstGeom>
          <a:ln w="0">
            <a:noFill/>
          </a:ln>
        </p:spPr>
      </p:pic>
      <p:sp>
        <p:nvSpPr>
          <p:cNvPr id="44" name="Slide_Copyright"/>
          <p:cNvSpPr/>
          <p:nvPr/>
        </p:nvSpPr>
        <p:spPr>
          <a:xfrm>
            <a:off x="2527200" y="6654960"/>
            <a:ext cx="41022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4, Oracle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 algn="ctr"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28600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5800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91440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315200" cy="11811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5058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fter completing this lesson, you should be able to do the following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st the course objectiv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scribe the sample tables used in the cour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rse Objec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217620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fter completing this course, you should be able to do the following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advanced SQL data retrieval techniques to retrieve data from database tabl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ly advanced techniques in a practice that simulates real lif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rse Over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63280" y="1816200"/>
            <a:ext cx="7365960" cy="393588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this course, you will use advanced SQL data retrieval techniques such as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tetime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OLLU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B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operators,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ROUP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erarchical qu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rrelated subqu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table inser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erg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oper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ternal tabl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r expression usag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370560" y="313524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370560" y="2882880"/>
            <a:ext cx="1526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18280" y="2882160"/>
            <a:ext cx="15228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70560" y="28828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rse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table027" descr=""/>
          <p:cNvPicPr/>
          <p:nvPr/>
        </p:nvPicPr>
        <p:blipFill>
          <a:blip r:embed="rId1"/>
          <a:stretch/>
        </p:blipFill>
        <p:spPr>
          <a:xfrm>
            <a:off x="1219320" y="1793880"/>
            <a:ext cx="993600" cy="1406520"/>
          </a:xfrm>
          <a:prstGeom prst="rect">
            <a:avLst/>
          </a:prstGeom>
          <a:ln w="0">
            <a:noFill/>
          </a:ln>
        </p:spPr>
      </p:pic>
      <p:pic>
        <p:nvPicPr>
          <p:cNvPr id="99" name="table027" descr=""/>
          <p:cNvPicPr/>
          <p:nvPr/>
        </p:nvPicPr>
        <p:blipFill>
          <a:blip r:embed="rId2"/>
          <a:stretch/>
        </p:blipFill>
        <p:spPr>
          <a:xfrm>
            <a:off x="5942160" y="3886200"/>
            <a:ext cx="993600" cy="1406520"/>
          </a:xfrm>
          <a:prstGeom prst="rect">
            <a:avLst/>
          </a:prstGeom>
          <a:ln w="0">
            <a:noFill/>
          </a:ln>
        </p:spPr>
      </p:pic>
      <p:pic>
        <p:nvPicPr>
          <p:cNvPr id="100" name="table027" descr=""/>
          <p:cNvPicPr/>
          <p:nvPr/>
        </p:nvPicPr>
        <p:blipFill>
          <a:blip r:embed="rId3"/>
          <a:stretch/>
        </p:blipFill>
        <p:spPr>
          <a:xfrm>
            <a:off x="3581280" y="1793880"/>
            <a:ext cx="993960" cy="1406520"/>
          </a:xfrm>
          <a:prstGeom prst="rect">
            <a:avLst/>
          </a:prstGeom>
          <a:ln w="0">
            <a:noFill/>
          </a:ln>
        </p:spPr>
      </p:pic>
      <p:pic>
        <p:nvPicPr>
          <p:cNvPr id="101" name="table027" descr=""/>
          <p:cNvPicPr/>
          <p:nvPr/>
        </p:nvPicPr>
        <p:blipFill>
          <a:blip r:embed="rId4"/>
          <a:stretch/>
        </p:blipFill>
        <p:spPr>
          <a:xfrm>
            <a:off x="3589200" y="3886200"/>
            <a:ext cx="993960" cy="1406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39960" y="331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MPLOY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25960" y="3333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PART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78360" y="52531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14680" y="5253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G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72200" y="3321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209680" y="2286000"/>
            <a:ext cx="1371600" cy="304920"/>
            <a:chOff x="2209680" y="2286000"/>
            <a:chExt cx="1371600" cy="304920"/>
          </a:xfrm>
        </p:grpSpPr>
        <p:sp>
          <p:nvSpPr>
            <p:cNvPr id="108" name=""/>
            <p:cNvSpPr/>
            <p:nvPr/>
          </p:nvSpPr>
          <p:spPr>
            <a:xfrm>
              <a:off x="2438280" y="243828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09680" y="2286000"/>
              <a:ext cx="22860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2209680" y="2438280"/>
              <a:ext cx="22860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09680" y="243828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572000" y="2281320"/>
            <a:ext cx="1371600" cy="303840"/>
            <a:chOff x="4572000" y="2281320"/>
            <a:chExt cx="1371600" cy="303840"/>
          </a:xfrm>
        </p:grpSpPr>
        <p:sp>
          <p:nvSpPr>
            <p:cNvPr id="113" name=""/>
            <p:cNvSpPr/>
            <p:nvPr/>
          </p:nvSpPr>
          <p:spPr>
            <a:xfrm>
              <a:off x="4800600" y="243324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72000" y="2281320"/>
              <a:ext cx="22860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4572000" y="2432880"/>
              <a:ext cx="22860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24332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4572000" y="4514400"/>
            <a:ext cx="1371600" cy="304920"/>
            <a:chOff x="4572000" y="4514400"/>
            <a:chExt cx="1371600" cy="304920"/>
          </a:xfrm>
        </p:grpSpPr>
        <p:sp>
          <p:nvSpPr>
            <p:cNvPr id="118" name=""/>
            <p:cNvSpPr/>
            <p:nvPr/>
          </p:nvSpPr>
          <p:spPr>
            <a:xfrm flipH="1">
              <a:off x="4572000" y="466704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5715000" y="4667040"/>
              <a:ext cx="22860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5715000" y="4514400"/>
              <a:ext cx="22860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5715000" y="46670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2" name="table027" descr=""/>
          <p:cNvPicPr/>
          <p:nvPr/>
        </p:nvPicPr>
        <p:blipFill>
          <a:blip r:embed="rId5"/>
          <a:stretch/>
        </p:blipFill>
        <p:spPr>
          <a:xfrm>
            <a:off x="5880240" y="1793880"/>
            <a:ext cx="993600" cy="14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2385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this lesson, you should have learned the following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urse objectiv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sample tables used in the cour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550"/>
              </a:spcBef>
              <a:buNone/>
              <a:tabLst>
                <a:tab algn="l" pos="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17:11:09Z</dcterms:created>
  <dc:creator>Oracle</dc:creator>
  <dc:description/>
  <dc:language>en-US</dc:language>
  <cp:lastModifiedBy>hkalyana</cp:lastModifiedBy>
  <cp:lastPrinted>2002-03-28T23:57:22Z</cp:lastPrinted>
  <dcterms:modified xsi:type="dcterms:W3CDTF">2004-08-16T07:42:24Z</dcterms:modified>
  <cp:revision>40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uild_Date">
    <vt:filetime>2001-07-03T07:00:00Z</vt:filetime>
  </property>
  <property fmtid="{D5CDD505-2E9C-101B-9397-08002B2CF9AE}" pid="3" name="Build_Time">
    <vt:lpwstr>10:11:09 AM</vt:lpwstr>
  </property>
  <property fmtid="{D5CDD505-2E9C-101B-9397-08002B2CF9AE}" pid="4" name="Build_version">
    <vt:lpwstr> 111</vt:lpwstr>
  </property>
  <property fmtid="{D5CDD505-2E9C-101B-9397-08002B2CF9AE}" pid="5" name="Install_dir">
    <vt:lpwstr/>
  </property>
  <property fmtid="{D5CDD505-2E9C-101B-9397-08002B2CF9AE}" pid="6" name="Version">
    <vt:lpwstr>1.00</vt:lpwstr>
  </property>
  <property fmtid="{D5CDD505-2E9C-101B-9397-08002B2CF9AE}" pid="7" name="home_page">
    <vt:lpwstr>http://ap337sun.us.oracle.com/powerpoint</vt:lpwstr>
  </property>
</Properties>
</file>