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566280" y="158760"/>
            <a:ext cx="6180120" cy="463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39200" y="5011560"/>
            <a:ext cx="6434280" cy="39434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9680" bIns="496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5000" y="9037800"/>
            <a:ext cx="5654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en-US" sz="1100" spc="-1" strike="noStrike">
                <a:solidFill>
                  <a:srgbClr val="ffffcc"/>
                </a:solidFill>
                <a:latin typeface="Arial"/>
              </a:rPr>
              <a:t>Preface </a:t>
            </a:r>
            <a:r>
              <a:rPr b="1" lang="en-US" sz="1100" spc="-1" strike="noStrike">
                <a:solidFill>
                  <a:srgbClr val="ffffcc"/>
                </a:solidFill>
                <a:latin typeface="Times New Roman"/>
              </a:rPr>
              <a:t>- </a:t>
            </a:r>
            <a:fld id="{4AE14305-C439-44DC-87CC-03ACA448E78B}" type="slidenum">
              <a:rPr b="1" lang="en-US" sz="11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" Target="../slides/slide6.xml"/><Relationship Id="rId4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081760" y="1287360"/>
            <a:ext cx="1083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400" bIns="41400" anchor="t">
            <a:noAutofit/>
          </a:bodyPr>
          <a:p>
            <a:pPr algn="ctr"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eface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070600" y="930240"/>
            <a:ext cx="1104480" cy="1080720"/>
            <a:chOff x="5070600" y="930240"/>
            <a:chExt cx="1104480" cy="1080720"/>
          </a:xfrm>
        </p:grpSpPr>
        <p:sp>
          <p:nvSpPr>
            <p:cNvPr id="96" name=""/>
            <p:cNvSpPr/>
            <p:nvPr/>
          </p:nvSpPr>
          <p:spPr>
            <a:xfrm>
              <a:off x="5087160" y="930240"/>
              <a:ext cx="1087920" cy="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70600" y="2010960"/>
              <a:ext cx="1104480" cy="0"/>
            </a:xfrm>
            <a:prstGeom prst="line">
              <a:avLst/>
            </a:prstGeom>
            <a:ln w="12600">
              <a:solidFill>
                <a:srgbClr val="41414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39200" y="285480"/>
            <a:ext cx="6434280" cy="8669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9680" bIns="49680" anchor="t">
            <a:noAutofit/>
          </a:bodyPr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439200" y="533160"/>
            <a:ext cx="6434280" cy="842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9680" bIns="496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fore You Begin This Cours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2212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fore you begin this course, you should have working experience with SQL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requisit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2212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i="1" lang="en-GB" sz="1100" spc="-1" strike="noStrike">
                <a:solidFill>
                  <a:srgbClr val="000000"/>
                </a:solidFill>
                <a:latin typeface="Arial"/>
              </a:rPr>
              <a:t>Oracle Database 10g: SQL Fundamentals I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w This Course Is Organize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racle Database 10g: SQL Fundamentals II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 an instructor-led course featuring lectures and hands-on exercises. Online demonstrations and written practice sessions reinforce the concepts and skills introduced.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39200" y="533160"/>
            <a:ext cx="6434280" cy="842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9680" bIns="496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lated Publication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ditional Publication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2212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ystem release bulletin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2212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stallation and user’s guid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2212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ad-me fil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2212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national Oracle User’s Group (IOUG) articl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2212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racle Magazi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39200" y="533160"/>
            <a:ext cx="6434280" cy="842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9680" bIns="496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ographic Convention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ographic Conventions In Tex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79320" y="1378080"/>
          <a:ext cx="5484960" cy="66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378080"/>
                    <a:ext cx="5484960" cy="66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439200" y="533160"/>
            <a:ext cx="6434280" cy="842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9680" bIns="496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ographic Conventions (continued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ographic Conventions In Tex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1386000"/>
          <a:ext cx="6135840" cy="838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86000"/>
                    <a:ext cx="6135840" cy="838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439200" y="533160"/>
            <a:ext cx="6434280" cy="842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9680" bIns="496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ographic Conventions (continued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ypographic Conventions in Navigation Path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course uses simplified navigation paths, such as the following example, to direct you through Oracle Applications. 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voice Batch Summary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N) Invoice &gt; Entry &gt; Invoice Batches Summary (M) Query &gt; Find (B) Approv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s simplified path translates to the following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N) From the Navigator window, select Invoice &gt; Entry &gt; Invoice Batches Summary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M) From the menu, select Query &gt; Fin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B) Click the Approve button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N) = Navigato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I) = Ic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M) = Men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H) = Hyperlink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T) = Ta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B) = Butt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39200" y="285480"/>
            <a:ext cx="6434280" cy="8669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9680" bIns="49680" anchor="t">
            <a:noAutofit/>
          </a:bodyPr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0400" y="383112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040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72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7360" y="181440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54680" y="181440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0400" y="383112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7360" y="383112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54680" y="383112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60400" y="1814400"/>
            <a:ext cx="738504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738504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22320" y="529920"/>
            <a:ext cx="72993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6040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0400" y="1814400"/>
            <a:ext cx="738504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472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60400" y="383112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60400" y="383112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6040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472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7360" y="181440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54680" y="181440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60400" y="383112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7360" y="383112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54680" y="383112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738504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22320" y="529920"/>
            <a:ext cx="72993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040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72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0400" y="383112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0400" y="1814400"/>
            <a:ext cx="7385040" cy="3860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rmAutofit/>
          </a:bodyPr>
          <a:p>
            <a:pPr marL="404640" indent="-404640">
              <a:lnSpc>
                <a:spcPct val="95000"/>
              </a:lnSpc>
              <a:spcBef>
                <a:spcPts val="1225"/>
              </a:spcBef>
              <a:buClr>
                <a:srgbClr val="66ffff"/>
              </a:buClr>
              <a:buSzPct val="125000"/>
              <a:buFont typeface="Arial"/>
              <a:buChar char="•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19080" indent="-399960">
              <a:lnSpc>
                <a:spcPct val="95000"/>
              </a:lnSpc>
              <a:spcBef>
                <a:spcPts val="1225"/>
              </a:spcBef>
              <a:buClr>
                <a:srgbClr val="66ffff"/>
              </a:buClr>
              <a:buFont typeface="Arial"/>
              <a:buChar char="–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19040" indent="-285480">
              <a:lnSpc>
                <a:spcPct val="95000"/>
              </a:lnSpc>
              <a:spcBef>
                <a:spcPts val="1225"/>
              </a:spcBef>
              <a:buClr>
                <a:srgbClr val="7beaea"/>
              </a:buClr>
              <a:buSzPct val="90000"/>
              <a:buFont typeface="Arial"/>
              <a:buChar char="–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62120" indent="-228600">
              <a:lnSpc>
                <a:spcPct val="95000"/>
              </a:lnSpc>
              <a:spcBef>
                <a:spcPts val="1225"/>
              </a:spcBef>
              <a:buClr>
                <a:srgbClr val="ffffcc"/>
              </a:buClr>
              <a:buFont typeface="Times New Roman"/>
              <a:buChar char="–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225"/>
              </a:spcBef>
              <a:buClr>
                <a:srgbClr val="ffffcc"/>
              </a:buClr>
              <a:buFont typeface="Times New Roman"/>
              <a:buChar char="•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225"/>
              </a:spcBef>
              <a:buClr>
                <a:srgbClr val="ffffcc"/>
              </a:buClr>
              <a:buFont typeface="Times New Roman"/>
              <a:buChar char="•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225"/>
              </a:spcBef>
              <a:buClr>
                <a:srgbClr val="ffffcc"/>
              </a:buClr>
              <a:buFont typeface="Times New Roman"/>
              <a:buChar char="•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9120" y="6294600"/>
            <a:ext cx="1154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cf4ea"/>
                </a:solidFill>
                <a:latin typeface="Arial"/>
              </a:rPr>
              <a:t>1-</a:t>
            </a:r>
            <a:fld id="{2CE93311-58E2-415A-846D-1896529FCB62}" type="slidenum">
              <a:rPr b="0" lang="en-US" sz="1400" spc="-1" strike="noStrike">
                <a:solidFill>
                  <a:srgbClr val="8cf4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634080" y="6335640"/>
            <a:ext cx="1604880" cy="1778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9480" y="6311880"/>
            <a:ext cx="3949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Copyright Oracle Corporation, 2002. All rights reserv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6634080" y="6335640"/>
            <a:ext cx="1604880" cy="177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5240" y="6311880"/>
            <a:ext cx="411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Copyright </a:t>
            </a:r>
            <a:r>
              <a:rPr b="0" lang="en-US" sz="1200" spc="-1" strike="noStrike">
                <a:solidFill>
                  <a:srgbClr val="618ffd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 Oracle Corporation, 1998. All rights reserv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27000" y="622440"/>
            <a:ext cx="7290000" cy="5592600"/>
          </a:xfrm>
          <a:prstGeom prst="rect">
            <a:avLst/>
          </a:prstGeom>
          <a:noFill/>
          <a:ln w="255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6640" y="2666520"/>
            <a:ext cx="7302600" cy="1181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4040" y="1104840"/>
            <a:ext cx="1028520" cy="1028880"/>
          </a:xfrm>
          <a:prstGeom prst="rect">
            <a:avLst/>
          </a:prstGeom>
          <a:gradFill rotWithShape="0">
            <a:gsLst>
              <a:gs pos="0">
                <a:srgbClr val="181898"/>
              </a:gs>
              <a:gs pos="100000">
                <a:srgbClr val="2323dc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6000" spc="-1" strike="noStrike">
                <a:solidFill>
                  <a:srgbClr val="66ff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Full Notes Page for Prefac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Print or View Notes Pages (not Slides)</a:t>
            </a:r>
            <a:br>
              <a:rPr sz="3200"/>
            </a:b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Full Notes Page for Prefac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Print or View Notes Pages (not Slides)</a:t>
            </a:r>
            <a:br>
              <a:rPr sz="3200"/>
            </a:b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Full Notes Page for Prefac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Print or View Notes Pages (not Slides)</a:t>
            </a:r>
            <a:br>
              <a:rPr sz="3200"/>
            </a:b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Full Notes Page for Prefac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Print or View Notes Pages (not Slides)</a:t>
            </a:r>
            <a:br>
              <a:rPr sz="3200"/>
            </a:b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Full Notes Page for Prefac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Print or View Notes Pages (not Slides)</a:t>
            </a:r>
            <a:br>
              <a:rPr sz="3200"/>
            </a:b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Full Notes Page for Prefac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Print or View Notes Pages (not Slides)</a:t>
            </a:r>
            <a:br>
              <a:rPr sz="3200"/>
            </a:b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Full Notes Page for Prefac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Print or View Notes Pages (not Slides)</a:t>
            </a:r>
            <a:br>
              <a:rPr sz="3200"/>
            </a:b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Full Notes Page for Prefac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Print or View Notes Pages (not Slides)</a:t>
            </a:r>
            <a:br>
              <a:rPr sz="3200"/>
            </a:b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ulie Rose</dc:creator>
  <dc:description/>
  <dc:language>en-US</dc:language>
  <cp:lastModifiedBy>hkalyana</cp:lastModifiedBy>
  <cp:lastPrinted>2004-02-10T20:28:33Z</cp:lastPrinted>
  <dcterms:modified xsi:type="dcterms:W3CDTF">2004-08-16T09:55:30Z</dcterms:modified>
  <cp:revision>120</cp:revision>
  <dc:subject/>
  <dc:title>&lt;Lesson Title&gt;</dc:title>
</cp:coreProperties>
</file>